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ADC-64A3-4454-A60E-63FFF53C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8B7-FEDB-477E-962D-D3A8559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068-EB93-43F6-BF3A-7A109DC7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B6D-FACA-4002-A6BB-8885A002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F7F-8655-493D-AA7F-F65ED46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D72-80AA-4F43-9A35-E2BE00D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474-C917-40D5-8482-917C47E2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59F-31E1-4162-AE86-C251AE6D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F60-E841-40B0-BA9C-A2BCF2A0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90A-5AEE-49EA-94AD-4F109E6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142-BE69-4147-8349-08A0E45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893-4440-4BCC-AE04-033125B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677D-83D2-4BE0-93B6-280EAC34D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я группы учащихся 4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У «Красногвардейская средняя общеобразовательная школа №1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549360"/>
            <a:ext cx="590400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утешествие за карава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31683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 Кто весной не сеет, тот осенью жалеет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 земля «поспела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теплом обдас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тов для с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жий влажный пла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умою весе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им мы зер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сом тяжел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растет о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808360" cy="215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36000" y="4797360"/>
            <a:ext cx="176184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6050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2624040" cy="1901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 Хлеб в колосу, пора жать полосу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до песен бо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стра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ова просит 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а и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завет старинны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зав хлеб серп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, имени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оп поставить в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520720" cy="166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43640" y="2708280"/>
            <a:ext cx="2232000" cy="2117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 Красно поле снопами, а овин скирдами 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842920" y="2492280"/>
            <a:ext cx="309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женица – мель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ала у ре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мели нам, мельниц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зерна мук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льница не ленится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тит жерно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шумит, и пен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ая 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3933720"/>
            <a:ext cx="1904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43320" cy="2146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 У кого хлеб родится, тот и веселится 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о, может быть, прост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ый хлебушек исп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о замесить густ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его поставить в п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сначала н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оле вырастить зер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тним днем трудится дру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налилось о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о в срок убрать пшениц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ерно в муку смоло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мог на свет род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еба белого ломо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2320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59:25Z</dcterms:created>
  <dc:creator>User</dc:creator>
  <dc:description/>
  <dc:language>en-US</dc:language>
  <cp:lastModifiedBy>User</cp:lastModifiedBy>
  <dcterms:modified xsi:type="dcterms:W3CDTF">2008-02-23T14:24:57Z</dcterms:modified>
  <cp:revision>2</cp:revision>
  <dc:subject/>
  <dc:title>Как выращивали хлеб наши предки</dc:title>
</cp:coreProperties>
</file>